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486-6630-450E-A0AA-A8A767F6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39EA-7BC6-4523-90CC-ADEC4056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E1C-08BD-4734-B586-459CF8C8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890-6A9E-4E2B-9574-089C15F9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44C4-9CF9-4422-8966-2544491A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5CAE-B7A4-404A-A36B-7A3A4054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FA9-7F54-44A9-8667-7F33C60A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AC6-D6DA-4BA8-AC62-A6E8ACFB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BF2-E1BA-4F47-9645-726B986D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6AA-26DB-409C-8690-C89B7ABE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3A8-3A86-45BE-BAEA-62DF90B6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9E8-AEF9-4AA0-BDCF-7585A5B8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6AFC-374A-4DD8-9520-C879B535D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mazon.com/gp/reader/0789465205/ref=sib_dp_pt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search.barnesandnoble.com/booksearch/imageviewer.asp?ean=9780736826174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amazon.com/gp/product/images/079225936X/sr=1-1/qid=1253050748/ref=dp_image_0?ie=UTF8&amp;n=283155&amp;s=books&amp;qid=1253050748&amp;sr=1-1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azon.com/gp/reader/0756614961/ref=sib_dp_pt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man Old Style"/>
              </a:rPr>
              <a:t>Non-Fiction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ust the fact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Expository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Expository text is text that explains someth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Includes fa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May include dates, timelines, charts or graph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Contains Non-Fiction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Table of contents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* Bolded wo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Heading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* Ma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ub heading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* Time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Diagrams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* Cap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Charts or Graphs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Types of Expository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Magazine Artic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Textboo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Newspaper Artic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Fly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Editori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Newslet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Pamphle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Diction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Encyclope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4419720" y="1600200"/>
            <a:ext cx="396216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Billbo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Advertis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Websi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Broch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Ma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Cha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Dia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T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Recip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man Old Style"/>
              </a:rPr>
              <a:t>Me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Big Book of Bug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3200400"/>
            <a:ext cx="3200400" cy="335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Examples of Expository 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Matter by Christine Webster: Book Cove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371600"/>
            <a:ext cx="2743200" cy="272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National Geographic Encyclopedia of Animals">
            <a:hlinkClick r:id="rId5"/>
          </p:cNvPr>
          <p:cNvPicPr/>
          <p:nvPr/>
        </p:nvPicPr>
        <p:blipFill>
          <a:blip r:embed="rId6"/>
          <a:srcRect l="11118" t="0" r="13339" b="0"/>
          <a:stretch/>
        </p:blipFill>
        <p:spPr>
          <a:xfrm>
            <a:off x="5867280" y="1295280"/>
            <a:ext cx="259092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380880" y="4191120"/>
            <a:ext cx="3048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Can you find ex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Bookman Old Style"/>
              </a:rPr>
              <a:t>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Biographies and Autobiogra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ext that tells about someone’s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Includes facts about that pers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ay include dates and timeli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Biography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- someone else writes about another person’s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Autobiography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- someone writes about their own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Eleanor Roosevelt (DK Biography)">
            <a:hlinkClick r:id="rId1"/>
          </p:cNvPr>
          <p:cNvPicPr/>
          <p:nvPr/>
        </p:nvPicPr>
        <p:blipFill>
          <a:blip r:embed="rId2"/>
          <a:srcRect l="20000" t="13339" r="23339" b="0"/>
          <a:stretch/>
        </p:blipFill>
        <p:spPr>
          <a:xfrm>
            <a:off x="6324480" y="1752480"/>
            <a:ext cx="2286000" cy="3495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Examples of Biographies and Autobiogra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A Picture Book of Davy Crockett (Picture Book Biography)"/>
          <p:cNvPicPr/>
          <p:nvPr/>
        </p:nvPicPr>
        <p:blipFill>
          <a:blip r:embed="rId3"/>
          <a:srcRect l="0" t="0" r="0" b="6661"/>
          <a:stretch/>
        </p:blipFill>
        <p:spPr>
          <a:xfrm>
            <a:off x="2252520" y="1600200"/>
            <a:ext cx="2776680" cy="2590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Jammin' with the Jonas Brothers: An Unauthorized Biography"/>
          <p:cNvPicPr/>
          <p:nvPr/>
        </p:nvPicPr>
        <p:blipFill>
          <a:blip r:embed="rId4"/>
          <a:srcRect l="20000" t="13339" r="22220" b="0"/>
          <a:stretch/>
        </p:blipFill>
        <p:spPr>
          <a:xfrm>
            <a:off x="4648320" y="3581280"/>
            <a:ext cx="1981080" cy="297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Winners Never Quit!"/>
          <p:cNvPicPr/>
          <p:nvPr/>
        </p:nvPicPr>
        <p:blipFill>
          <a:blip r:embed="rId5"/>
          <a:srcRect l="0" t="13339" r="6661" b="0"/>
          <a:stretch/>
        </p:blipFill>
        <p:spPr>
          <a:xfrm>
            <a:off x="369720" y="4038480"/>
            <a:ext cx="2706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21:29:42Z</dcterms:created>
  <dc:creator>127hollandm</dc:creator>
  <dc:description/>
  <dc:language>en-US</dc:language>
  <cp:lastModifiedBy>127ramirezc</cp:lastModifiedBy>
  <dcterms:modified xsi:type="dcterms:W3CDTF">2009-09-20T23:02:37Z</dcterms:modified>
  <cp:revision>4</cp:revision>
  <dc:subject/>
  <dc:title>Non-Fiction </dc:title>
</cp:coreProperties>
</file>